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5.png" ContentType="image/png"/>
  <Override PartName="/ppt/media/image35.png" ContentType="image/png"/>
  <Override PartName="/ppt/media/image8.jpeg" ContentType="image/jpeg"/>
  <Override PartName="/ppt/media/image38.png" ContentType="image/png"/>
  <Override PartName="/ppt/media/image11.jpeg" ContentType="image/jpeg"/>
  <Override PartName="/ppt/media/image9.jpeg" ContentType="image/jpeg"/>
  <Override PartName="/ppt/media/image31.png" ContentType="image/png"/>
  <Override PartName="/ppt/media/image36.png" ContentType="image/png"/>
  <Override PartName="/ppt/media/image37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3.jpeg" ContentType="image/jpeg"/>
  <Override PartName="/ppt/media/image15.jpeg" ContentType="image/jpeg"/>
  <Override PartName="/ppt/media/image16.jpeg" ContentType="image/jpeg"/>
  <Override PartName="/ppt/media/las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E65D-B903-41FA-B87F-126044FDD77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13BD-82C2-44E6-92E3-EA539E7D38F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4CF-0FF7-4554-91DF-45973214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9437-61F0-4576-836D-AC6F97E4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C79A-AC16-4C20-829F-123783B6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46A1-C9EB-4581-838B-B7BA1F067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2D71-B35E-4CE9-AB46-C745AD3E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47A3-6BED-4D40-9A2D-FE55CA2E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B227-826F-411B-9134-0D4F48A6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ACA0-1667-4737-B725-FF856825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0D5A-C581-465E-934A-AE430982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ECE1-E9F2-4AA6-A48C-776101DC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3D81-EDB0-41B2-AE52-A2877F85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C17F-BFF3-4E85-876F-4D7C8B39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期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时间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页脚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3.jpeg"/><Relationship Id="rId4" Type="http://schemas.openxmlformats.org/officeDocument/2006/relationships/image" Target="../media/image21.jpeg"/><Relationship Id="rId5" Type="http://schemas.openxmlformats.org/officeDocument/2006/relationships/image" Target="../media/image7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535640" y="3213000"/>
            <a:ext cx="4608360" cy="29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Period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3a-3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Self 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535680" y="692280"/>
            <a:ext cx="798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Unit 1 What’s the matte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228920" cy="47592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5724360" y="2133720"/>
            <a:ext cx="1904760" cy="837720"/>
            <a:chOff x="5724360" y="2133720"/>
            <a:chExt cx="1904760" cy="837720"/>
          </a:xfrm>
        </p:grpSpPr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5724360" y="2165400"/>
              <a:ext cx="1904760" cy="80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726880" y="2204280"/>
              <a:ext cx="128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Se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61600" y="2133720"/>
              <a:ext cx="50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00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3203280" cy="4140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2120" y="5181480"/>
            <a:ext cx="384012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440" rIns="118440" tIns="59400" bIns="59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e has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tomachach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572000" y="838080"/>
            <a:ext cx="4572000" cy="3810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724280" y="5105520"/>
            <a:ext cx="44197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440" rIns="118440" tIns="59400" bIns="59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he has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tomachach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48320" y="5029200"/>
            <a:ext cx="3840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he has a coug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rcRect l="0" t="13966" r="0" b="5474"/>
          <a:stretch/>
        </p:blipFill>
        <p:spPr>
          <a:xfrm>
            <a:off x="4724280" y="609480"/>
            <a:ext cx="2826000" cy="3691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80880" y="838080"/>
            <a:ext cx="3429000" cy="3505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0880" y="4952880"/>
            <a:ext cx="3840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e has a coug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头痛 难过 沮丧 职场人物-人物-人物,职场人物"/>
          <p:cNvPicPr/>
          <p:nvPr/>
        </p:nvPicPr>
        <p:blipFill>
          <a:blip r:embed="rId2"/>
          <a:stretch/>
        </p:blipFill>
        <p:spPr>
          <a:xfrm>
            <a:off x="5334120" y="685800"/>
            <a:ext cx="3263760" cy="4141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876920" y="5257800"/>
            <a:ext cx="426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he has a headach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80880" y="838080"/>
            <a:ext cx="4267440" cy="3962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" y="5181480"/>
            <a:ext cx="3962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e has a headach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19320" y="4572000"/>
            <a:ext cx="52578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9200" y="5410080"/>
            <a:ext cx="4224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e has a sore ba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0" t="0" r="0" b="10271"/>
          <a:stretch/>
        </p:blipFill>
        <p:spPr>
          <a:xfrm>
            <a:off x="636480" y="1089000"/>
            <a:ext cx="3264120" cy="3689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800600" y="1066680"/>
            <a:ext cx="38098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919760" y="5410080"/>
            <a:ext cx="4224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he has a sore ba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105520" y="533520"/>
            <a:ext cx="3162240" cy="4267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191120" y="5257800"/>
            <a:ext cx="4952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e has a heart probl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57200" y="685800"/>
            <a:ext cx="4343400" cy="3809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5181480"/>
            <a:ext cx="4114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e has a noseble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692360" y="2619360"/>
            <a:ext cx="6334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: What’s the matter with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: He/She has a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0" t="13586" r="0" b="4897"/>
          <a:stretch/>
        </p:blipFill>
        <p:spPr>
          <a:xfrm>
            <a:off x="3227400" y="4060800"/>
            <a:ext cx="2046240" cy="2158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940120" y="72864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Work in Pa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rcRect l="0" t="0" r="0" b="10271"/>
          <a:stretch/>
        </p:blipFill>
        <p:spPr>
          <a:xfrm>
            <a:off x="539640" y="4060800"/>
            <a:ext cx="1830600" cy="2341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头痛 难过 沮丧 职场人物-人物-人物,职场人物"/>
          <p:cNvPicPr/>
          <p:nvPr/>
        </p:nvPicPr>
        <p:blipFill>
          <a:blip r:embed="rId4"/>
          <a:stretch/>
        </p:blipFill>
        <p:spPr>
          <a:xfrm>
            <a:off x="6875640" y="458640"/>
            <a:ext cx="1628640" cy="2070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6492960" y="3787920"/>
            <a:ext cx="2046240" cy="2420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儿童游玩-少年儿童-少年儿童,儿童游玩"/>
          <p:cNvPicPr/>
          <p:nvPr/>
        </p:nvPicPr>
        <p:blipFill>
          <a:blip r:embed="rId6"/>
          <a:stretch/>
        </p:blipFill>
        <p:spPr>
          <a:xfrm>
            <a:off x="252360" y="458640"/>
            <a:ext cx="2494080" cy="208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41560" y="333360"/>
            <a:ext cx="485640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hu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have a fev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have a col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have a toothac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have a headac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have a sore throa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806560" y="3573360"/>
            <a:ext cx="633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hurt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3656160" cy="511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77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" dur="77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1"/>
          <p:cNvSpPr/>
          <p:nvPr/>
        </p:nvSpPr>
        <p:spPr>
          <a:xfrm>
            <a:off x="755640" y="1484280"/>
            <a:ext cx="784224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n Ralston is an American mountain 1_______. There were many times when Aron almost lost his life because 2___ accident. On April 26, 2003, He found himself in a very dangerous 3________ when climbing in Utah. On that day, Aron’s arm was caught under a 360-kilo rock that f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2982600" y="2205000"/>
            <a:ext cx="16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cli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2702160" y="336384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矩形 7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2160720" cy="935280"/>
          </a:xfrm>
          <a:prstGeom prst="rect">
            <a:avLst/>
          </a:prstGeom>
          <a:ln w="0">
            <a:noFill/>
          </a:ln>
        </p:spPr>
      </p:pic>
      <p:sp>
        <p:nvSpPr>
          <p:cNvPr id="134" name="TextBox 3"/>
          <p:cNvSpPr/>
          <p:nvPr/>
        </p:nvSpPr>
        <p:spPr>
          <a:xfrm>
            <a:off x="2700360" y="549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Arial"/>
              </a:rPr>
              <a:t>Fill in the blan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29120" y="4581360"/>
            <a:ext cx="18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9640" y="587520"/>
            <a:ext cx="828216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him when he was climbing by 4________ in the mountains. Because he could not free his arm, he stayed there for five days and hoped that 5_________ would find him. But when his water ran 6____, he knew that he would have to do something to 7_____ his own life. He was not ready to die that day. So he used h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876600" y="130824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him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6492960" y="25383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ome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49240" y="383544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3553200" y="448308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79640" y="768600"/>
            <a:ext cx="4897440" cy="5078520"/>
          </a:xfrm>
          <a:prstGeom prst="downArrowCallout">
            <a:avLst>
              <a:gd name="adj1" fmla="val 25002"/>
              <a:gd name="adj2" fmla="val 25000"/>
              <a:gd name="adj3" fmla="val 17283"/>
              <a:gd name="adj4" fmla="val 6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Review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1"/>
          <p:cNvSpPr/>
          <p:nvPr/>
        </p:nvSpPr>
        <p:spPr>
          <a:xfrm>
            <a:off x="755640" y="514440"/>
            <a:ext cx="799308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ife to 8___ off half his right arm. Then, with his left arm, he bandaged himself so 9_____ he would not lose too much 10_______. After that , he climbed down the mountain to find help. His love for mountain climbing is 11___ great that he kept on 12_________ mountains even after this experi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2602080" y="62064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c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3154320" y="192420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2532240" y="263700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7958160" y="3933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5544360" y="4581360"/>
            <a:ext cx="18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climb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2120" y="2971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692280"/>
            <a:ext cx="845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Imagine you are the school nurse and 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student just had an accident or a health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problem. Make notes about what he/she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should and shouldn't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914400" y="3048120"/>
          <a:ext cx="7543800" cy="2781360"/>
        </p:xfrm>
        <a:graphic>
          <a:graphicData uri="http://schemas.openxmlformats.org/drawingml/2006/table">
            <a:tbl>
              <a:tblPr/>
              <a:tblGrid>
                <a:gridCol w="2971800"/>
                <a:gridCol w="2057400"/>
                <a:gridCol w="251460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ident or health probl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/She shoul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/She shouldn'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250920" y="981000"/>
            <a:ext cx="761760" cy="6858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384120" y="115920"/>
          <a:ext cx="8435880" cy="6629400"/>
        </p:xfrm>
        <a:graphic>
          <a:graphicData uri="http://schemas.openxmlformats.org/drawingml/2006/table">
            <a:tbl>
              <a:tblPr/>
              <a:tblGrid>
                <a:gridCol w="2952720"/>
                <a:gridCol w="3024000"/>
                <a:gridCol w="2459160"/>
              </a:tblGrid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cident or health probl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 / She shoul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 / She shouldn’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528480" y="1325520"/>
            <a:ext cx="2664000" cy="1129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have a sore bac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81560" y="1340280"/>
            <a:ext cx="2592360" cy="1129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33ff"/>
                </a:solidFill>
                <a:latin typeface="Times New Roman"/>
              </a:rPr>
              <a:t>lie down and re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37960" y="1517760"/>
            <a:ext cx="1870920" cy="611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8000"/>
                </a:solidFill>
                <a:latin typeface="Times New Roman"/>
              </a:rPr>
              <a:t>do spor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2549520"/>
            <a:ext cx="2448000" cy="611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have a fev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09920" y="2359080"/>
            <a:ext cx="2808360" cy="1129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33ff"/>
                </a:solidFill>
                <a:latin typeface="Times New Roman"/>
              </a:rPr>
              <a:t>take some medic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3341520"/>
            <a:ext cx="2879640" cy="1129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have a sore thro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600" y="5734080"/>
            <a:ext cx="2062800" cy="611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cut mysel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19640" y="3454560"/>
            <a:ext cx="2736720" cy="1129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33ff"/>
                </a:solidFill>
                <a:latin typeface="Times New Roman"/>
              </a:rPr>
              <a:t>drink some hot te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09920" y="5527800"/>
            <a:ext cx="2879640" cy="1129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33ff"/>
                </a:solidFill>
                <a:latin typeface="Times New Roman"/>
              </a:rPr>
              <a:t>put some medicine on i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437000"/>
            <a:ext cx="2663640" cy="1129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have a toothach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63840" y="4724280"/>
            <a:ext cx="2518560" cy="611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33ff"/>
                </a:solidFill>
                <a:latin typeface="Times New Roman"/>
              </a:rPr>
              <a:t>see a dentis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53480" y="2637000"/>
            <a:ext cx="612000" cy="611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8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53480" y="3533760"/>
            <a:ext cx="612000" cy="611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8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53480" y="4619520"/>
            <a:ext cx="612000" cy="611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8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26560" y="5627520"/>
            <a:ext cx="612000" cy="611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8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332000" y="620640"/>
            <a:ext cx="795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Write a conversation between the nurse and the student using the notes in 3a. Use the questions and phrases below to help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251460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What's the matter?/What happened?/Are you 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No, I don't feel well/ I feel ... /I have a ...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Should I 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You should ... /You shouldn't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fell down/got hit by ... /cut my self/hurt my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0920" y="5257800"/>
            <a:ext cx="705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Nurse: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Student: 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981000"/>
            <a:ext cx="761760" cy="6858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539640" y="836640"/>
            <a:ext cx="8209080" cy="47005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’s the matter?/ What happened?/ Are you O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, I don’t feel well./ I feel…/ I have a …/ Should I 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…/ You shouldn’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ll down/ got hit by …/ cut myself / hurt m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867280" y="1628640"/>
            <a:ext cx="2808360" cy="2305080"/>
          </a:xfrm>
          <a:prstGeom prst="wedgeRoundRectCallout">
            <a:avLst>
              <a:gd name="adj1" fmla="val -60287"/>
              <a:gd name="adj2" fmla="val 8333"/>
              <a:gd name="adj3" fmla="val 16667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846440"/>
            <a:ext cx="2376360" cy="1944360"/>
          </a:xfrm>
          <a:prstGeom prst="wedgeRoundRectCallout">
            <a:avLst>
              <a:gd name="adj1" fmla="val 61287"/>
              <a:gd name="adj2" fmla="val -28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1773360"/>
            <a:ext cx="2808360" cy="2043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ate too much junk food, and I got a stomachac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4726080"/>
            <a:ext cx="4392720" cy="1871640"/>
          </a:xfrm>
          <a:prstGeom prst="wedgeRoundRectCallout">
            <a:avLst>
              <a:gd name="adj1" fmla="val -40782"/>
              <a:gd name="adj2" fmla="val -5983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916360" y="2205000"/>
            <a:ext cx="1028520" cy="2162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971640" y="404640"/>
            <a:ext cx="2952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air work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284720" y="2278080"/>
            <a:ext cx="1224000" cy="2104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68360" y="2092320"/>
            <a:ext cx="2016000" cy="1068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’s the ma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59280" y="4775040"/>
            <a:ext cx="4176720" cy="1749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ou shouldn’t eat so much next time. Now, you should lie down and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84720" y="1052640"/>
            <a:ext cx="2808360" cy="1584360"/>
          </a:xfrm>
          <a:prstGeom prst="wedgeRoundRectCallout">
            <a:avLst>
              <a:gd name="adj1" fmla="val -60287"/>
              <a:gd name="adj2" fmla="val 34870"/>
              <a:gd name="adj3" fmla="val 16667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270080"/>
            <a:ext cx="2376360" cy="1944720"/>
          </a:xfrm>
          <a:prstGeom prst="wedgeRoundRectCallout">
            <a:avLst>
              <a:gd name="adj1" fmla="val 61287"/>
              <a:gd name="adj2" fmla="val -28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35640" y="1268280"/>
            <a:ext cx="2484360" cy="1068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have a toothac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43280" y="4149720"/>
            <a:ext cx="3889440" cy="1657440"/>
          </a:xfrm>
          <a:prstGeom prst="wedgeRoundRectCallout">
            <a:avLst>
              <a:gd name="adj1" fmla="val -39592"/>
              <a:gd name="adj2" fmla="val -61111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916360" y="1628640"/>
            <a:ext cx="1028520" cy="21621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24000" y="1515960"/>
            <a:ext cx="2160360" cy="1068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59280" y="4292640"/>
            <a:ext cx="3528720" cy="1335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ou should see a dentist and get an X-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995640" y="1700280"/>
            <a:ext cx="1703520" cy="2049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867280" y="1052640"/>
            <a:ext cx="3097440" cy="2736720"/>
          </a:xfrm>
          <a:prstGeom prst="wedgeRoundRectCallout">
            <a:avLst>
              <a:gd name="adj1" fmla="val -59328"/>
              <a:gd name="adj2" fmla="val -870"/>
              <a:gd name="adj3" fmla="val 16667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1270080"/>
            <a:ext cx="2376360" cy="1944720"/>
          </a:xfrm>
          <a:prstGeom prst="wedgeRoundRectCallout">
            <a:avLst>
              <a:gd name="adj1" fmla="val 61287"/>
              <a:gd name="adj2" fmla="val -28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40360" y="1125360"/>
            <a:ext cx="3203640" cy="2043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didn’t wear enough warm clothes yesterday. Now  I have a c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4149720"/>
            <a:ext cx="3384360" cy="1295280"/>
          </a:xfrm>
          <a:prstGeom prst="wedgeRoundRectCallout">
            <a:avLst>
              <a:gd name="adj1" fmla="val -38041"/>
              <a:gd name="adj2" fmla="val -6421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1628640"/>
            <a:ext cx="1028520" cy="21621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24000" y="1515960"/>
            <a:ext cx="2160360" cy="1068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re you 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16360" y="4308480"/>
            <a:ext cx="3528720" cy="921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ou should drink some hot t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rcRect l="8564" t="0" r="0" b="0"/>
          <a:stretch/>
        </p:blipFill>
        <p:spPr>
          <a:xfrm>
            <a:off x="3995640" y="1700280"/>
            <a:ext cx="1544760" cy="2016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940360" y="1050840"/>
            <a:ext cx="3060720" cy="2305080"/>
          </a:xfrm>
          <a:prstGeom prst="wedgeRoundRectCallout">
            <a:avLst>
              <a:gd name="adj1" fmla="val -58560"/>
              <a:gd name="adj2" fmla="val -8472"/>
              <a:gd name="adj3" fmla="val 16667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6560" y="1268280"/>
            <a:ext cx="2376720" cy="1944720"/>
          </a:xfrm>
          <a:prstGeom prst="wedgeRoundRectCallout">
            <a:avLst>
              <a:gd name="adj1" fmla="val 61287"/>
              <a:gd name="adj2" fmla="val -28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12000" y="1171440"/>
            <a:ext cx="3132000" cy="2043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was making dinner just now and I cut myself acc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59280" y="4148280"/>
            <a:ext cx="3817800" cy="1368360"/>
          </a:xfrm>
          <a:prstGeom prst="wedgeRoundRectCallout">
            <a:avLst>
              <a:gd name="adj1" fmla="val -39398"/>
              <a:gd name="adj2" fmla="val -6345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059280" y="1627200"/>
            <a:ext cx="1028520" cy="21621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84360" y="1514520"/>
            <a:ext cx="2016000" cy="1068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’s the ma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4920" y="4181400"/>
            <a:ext cx="3602160" cy="921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ou should put some medicine on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rcRect l="32653" t="0" r="0" b="9351"/>
          <a:stretch/>
        </p:blipFill>
        <p:spPr>
          <a:xfrm>
            <a:off x="4140360" y="1771560"/>
            <a:ext cx="1536480" cy="1944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"/>
          <p:cNvSpPr/>
          <p:nvPr/>
        </p:nvSpPr>
        <p:spPr>
          <a:xfrm>
            <a:off x="1258920" y="3213000"/>
            <a:ext cx="6697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ead: 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ack: 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roat: 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oth: 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omach: 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ther problems: 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矩形 3" descr=""/>
          <p:cNvPicPr/>
          <p:nvPr/>
        </p:nvPicPr>
        <p:blipFill>
          <a:blip r:embed="rId2"/>
          <a:stretch/>
        </p:blipFill>
        <p:spPr>
          <a:xfrm>
            <a:off x="2556000" y="260280"/>
            <a:ext cx="3962160" cy="115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95280" y="148428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Write different health problems next to th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body parts. Then write more heal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problems you know o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1557360"/>
            <a:ext cx="762120" cy="6858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20600" y="1268280"/>
            <a:ext cx="7054920" cy="5008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1360" y="380880"/>
            <a:ext cx="7241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Let’s learn the parts of the bo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468360" y="587520"/>
            <a:ext cx="8064360" cy="55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: ____________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: ____________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at: _____________________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th: _______________________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mach: _____________________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blems: ___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"/>
          <p:cNvSpPr/>
          <p:nvPr/>
        </p:nvSpPr>
        <p:spPr>
          <a:xfrm>
            <a:off x="1692360" y="549360"/>
            <a:ext cx="709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ve a headache/get hit on the hea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"/>
          <p:cNvSpPr/>
          <p:nvPr/>
        </p:nvSpPr>
        <p:spPr>
          <a:xfrm>
            <a:off x="1763640" y="1523880"/>
            <a:ext cx="6553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ve a sore back/hurt one’s bac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2124000" y="2492280"/>
            <a:ext cx="3916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ve a sore throa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24000" y="3500280"/>
            <a:ext cx="4105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ve a toothach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56000" y="4548240"/>
            <a:ext cx="4562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ve a stomachach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80000" y="5229360"/>
            <a:ext cx="4562280" cy="1258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have a fever/have a nosebleed/cut oneself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324000" y="404640"/>
            <a:ext cx="820872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 these questions and answers in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der to make a conversati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"/>
          <p:cNvSpPr/>
          <p:nvPr/>
        </p:nvSpPr>
        <p:spPr>
          <a:xfrm>
            <a:off x="1187280" y="1700280"/>
            <a:ext cx="691380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 I hurt myself playing soccer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ave a sore le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 What should I do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 I think you should see a doctor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get an X-ra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 OK, thanks. I’ll do that now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 What’s the matte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 Oh, that doesn’t sound goo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4"/>
          <p:cNvSpPr/>
          <p:nvPr/>
        </p:nvSpPr>
        <p:spPr>
          <a:xfrm>
            <a:off x="1400760" y="1773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1421640" y="5805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00760" y="3497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1421640" y="4649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1392840" y="5226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1346040" y="2924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280" y="620640"/>
            <a:ext cx="762120" cy="6858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971640" y="333360"/>
            <a:ext cx="705636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rite advice for these peopl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250920" y="1125360"/>
            <a:ext cx="887724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Problem: Alan cut him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ice: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Problem: Cindy has a headac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ice: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Problem: My cousins have bad col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ice: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Problem: Jack hurt his back playing volley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ice: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"/>
          <p:cNvSpPr/>
          <p:nvPr/>
        </p:nvSpPr>
        <p:spPr>
          <a:xfrm>
            <a:off x="2050920" y="177336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ut some medicine on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"/>
          <p:cNvSpPr/>
          <p:nvPr/>
        </p:nvSpPr>
        <p:spPr>
          <a:xfrm>
            <a:off x="2124000" y="2924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ake a temperature and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1979640" y="414504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e down, rest and drink more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"/>
          <p:cNvSpPr/>
          <p:nvPr/>
        </p:nvSpPr>
        <p:spPr>
          <a:xfrm>
            <a:off x="2050920" y="5300640"/>
            <a:ext cx="66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o to the hospital and get an X-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9280" y="333360"/>
            <a:ext cx="762120" cy="6858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87280" y="6922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反身代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4360" y="1773360"/>
            <a:ext cx="7848360" cy="18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反射或强调的代词叫做反身代词。反身代词是由第一人称、第二人称形容词性物主代词或第一人称人称代词宾格形式，词尾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elv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组成。反身代词可译为“本人”、“本身”，为加强语气，也常译为“亲自”、“自己”。请见下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588000" y="4513320"/>
            <a:ext cx="2087640" cy="1353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27640" y="4513320"/>
            <a:ext cx="2160360" cy="13539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our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11280" y="4513320"/>
            <a:ext cx="2016360" cy="1353960"/>
          </a:xfrm>
          <a:prstGeom prst="rect">
            <a:avLst/>
          </a:prstGeom>
          <a:solidFill>
            <a:srgbClr val="cdff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ur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1280" y="4513320"/>
            <a:ext cx="1800000" cy="13539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88000" y="2766960"/>
            <a:ext cx="2087640" cy="174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im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r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2766960"/>
            <a:ext cx="2160360" cy="17463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our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11280" y="2766960"/>
            <a:ext cx="2016360" cy="1746360"/>
          </a:xfrm>
          <a:prstGeom prst="rect">
            <a:avLst/>
          </a:prstGeom>
          <a:solidFill>
            <a:srgbClr val="cdff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y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1280" y="2766960"/>
            <a:ext cx="1800000" cy="1746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单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588000" y="1413000"/>
            <a:ext cx="2087640" cy="1353960"/>
          </a:xfrm>
          <a:prstGeom prst="rect">
            <a:avLst/>
          </a:prstGeom>
          <a:solidFill>
            <a:srgbClr val="d0d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人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427640" y="1413000"/>
            <a:ext cx="2160360" cy="1353960"/>
          </a:xfrm>
          <a:prstGeom prst="rect">
            <a:avLst/>
          </a:prstGeom>
          <a:solidFill>
            <a:srgbClr val="d0d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人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11280" y="1413000"/>
            <a:ext cx="2016360" cy="1353960"/>
          </a:xfrm>
          <a:prstGeom prst="rect">
            <a:avLst/>
          </a:prstGeom>
          <a:solidFill>
            <a:srgbClr val="d0d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人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1413000"/>
            <a:ext cx="1800000" cy="1353960"/>
          </a:xfrm>
          <a:prstGeom prst="rect">
            <a:avLst/>
          </a:prstGeom>
          <a:solidFill>
            <a:srgbClr val="d0d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1413000"/>
            <a:ext cx="8064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2766960"/>
            <a:ext cx="806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4513320"/>
            <a:ext cx="806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5867280"/>
            <a:ext cx="8064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1413000"/>
            <a:ext cx="0" cy="44542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11280" y="1413000"/>
            <a:ext cx="0" cy="445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27640" y="1413000"/>
            <a:ext cx="0" cy="445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88000" y="1413000"/>
            <a:ext cx="0" cy="445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675640" y="1413000"/>
            <a:ext cx="0" cy="44542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1484280"/>
            <a:ext cx="1655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03280" y="1413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26920" y="2060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611280" y="765000"/>
          <a:ext cx="8064360" cy="5064480"/>
        </p:xfrm>
        <a:graphic>
          <a:graphicData uri="http://schemas.openxmlformats.org/drawingml/2006/table">
            <a:tbl>
              <a:tblPr/>
              <a:tblGrid>
                <a:gridCol w="1944720"/>
                <a:gridCol w="6119640"/>
              </a:tblGrid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句法作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例句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2657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宾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child can dress 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imself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这孩子能自己穿衣服了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26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 good care of 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yourself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好好照顾你自己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82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 the driver didn’t think about 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imself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但是司机并没有为自己着想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611280" y="620640"/>
          <a:ext cx="8064360" cy="5622840"/>
        </p:xfrm>
        <a:graphic>
          <a:graphicData uri="http://schemas.openxmlformats.org/drawingml/2006/table">
            <a:tbl>
              <a:tblPr/>
              <a:tblGrid>
                <a:gridCol w="2089080"/>
                <a:gridCol w="5975280"/>
              </a:tblGrid>
              <a:tr h="1170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主语或宾语的同位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. Black 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erself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s a lawyer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布莱克太太本人就是一名律师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>
                        <a:alpha val="50000"/>
                      </a:srgbClr>
                    </a:solidFill>
                  </a:tcPr>
                </a:tc>
              </a:tr>
              <a:tr h="179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had better ask the driver 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imself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你最好问问司机本人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>
                        <a:alpha val="50000"/>
                      </a:srgbClr>
                    </a:solidFill>
                  </a:tcPr>
                </a:tc>
              </a:tr>
              <a:tr h="1170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表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 be 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yourself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做你自己最好了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>
                        <a:alpha val="50000"/>
                      </a:srgbClr>
                    </a:solidFill>
                  </a:tcPr>
                </a:tc>
              </a:tr>
              <a:tr h="165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hasn’t quite been 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erself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recently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玛丽近来感到不适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49200" y="998640"/>
            <a:ext cx="8542440" cy="55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1. — What’s ________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—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I’ve got a headach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A. the wrong             B. the mater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C. trouble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D. matter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2. — Lucy has a toothach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—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She should ____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A. go to the movies   B. go to the aquari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C. go to see the dentist  D. go sightsee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3. If you have a sore throat, you should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drink some hot tea ______ some hone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A. with       B. in            C. on          D. h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909720"/>
            <a:ext cx="488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5562720"/>
            <a:ext cx="514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02200" y="3505320"/>
            <a:ext cx="514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83720" y="390600"/>
            <a:ext cx="215856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4100" spc="-1" strike="noStrike">
                <a:solidFill>
                  <a:srgbClr val="0000cc"/>
                </a:solidFill>
                <a:latin typeface="Times New Roman"/>
                <a:ea typeface="黑体"/>
              </a:rPr>
              <a:t>I. </a:t>
            </a:r>
            <a:r>
              <a:rPr b="1" lang="zh-CN" sz="4100" spc="-1" strike="noStrike">
                <a:solidFill>
                  <a:srgbClr val="0000cc"/>
                </a:solidFill>
                <a:latin typeface="Times New Roman"/>
                <a:ea typeface="黑体"/>
              </a:rPr>
              <a:t>单项选择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49200" y="639720"/>
            <a:ext cx="854244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I’m a little _____. I want to drin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ometh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. hungr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B. thirs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tire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D. ang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We should ______ a balanced di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. ea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B. to 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eat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D. e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If Jim is tired, he should 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. have a good rest   B. drink hot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see a dentis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D. exercise m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06920" y="2798640"/>
            <a:ext cx="514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16480" y="639720"/>
            <a:ext cx="488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92960" y="4419720"/>
            <a:ext cx="514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44600" y="1268280"/>
            <a:ext cx="815976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at, don’t, very, moment, the, feel, well, I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2. the, what’s, your, pet, matter, little, wi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3. very, study, sometimes, 3 am, until, late, I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50520" y="2259000"/>
            <a:ext cx="7242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 don’t feel very well at the mo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3600" y="3968640"/>
            <a:ext cx="7725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hat’s the matter with your little pe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24240" y="5410080"/>
            <a:ext cx="7815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 study very late, sometimes until 3 a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4600" y="458640"/>
            <a:ext cx="393516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4100" spc="-1" strike="noStrike">
                <a:solidFill>
                  <a:srgbClr val="0000cc"/>
                </a:solidFill>
                <a:latin typeface="Arial"/>
              </a:rPr>
              <a:t>Ⅱ</a:t>
            </a:r>
            <a:r>
              <a:rPr b="1" lang="zh-CN" sz="4100" spc="-1" strike="noStrike">
                <a:solidFill>
                  <a:srgbClr val="0000cc"/>
                </a:solidFill>
                <a:latin typeface="Arial"/>
              </a:rPr>
              <a:t>. </a:t>
            </a:r>
            <a:r>
              <a:rPr b="1" lang="zh-CN" sz="4100" spc="-1" strike="noStrike">
                <a:solidFill>
                  <a:srgbClr val="0000cc"/>
                </a:solidFill>
                <a:latin typeface="Arial"/>
              </a:rPr>
              <a:t>连词成句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92360" y="639720"/>
            <a:ext cx="4768920" cy="5670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715000" y="762120"/>
            <a:ext cx="1725480" cy="7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440" rIns="118440" tIns="59400" bIns="594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4100" spc="-1" strike="noStrike">
                <a:solidFill>
                  <a:srgbClr val="ff0000"/>
                </a:solidFill>
                <a:latin typeface="Times New Roman"/>
              </a:rPr>
              <a:t>head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16600" y="2259000"/>
            <a:ext cx="1249200" cy="7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440" rIns="118440" tIns="59400" bIns="594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4100" spc="-1" strike="noStrike">
                <a:solidFill>
                  <a:srgbClr val="ff0000"/>
                </a:solidFill>
                <a:latin typeface="Times New Roman"/>
              </a:rPr>
              <a:t>arm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19760" y="5140440"/>
            <a:ext cx="12477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440" rIns="118440" tIns="59400" bIns="59400" anchor="t">
            <a:no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4100" spc="-1" strike="noStrike">
                <a:solidFill>
                  <a:srgbClr val="ff0000"/>
                </a:solidFill>
                <a:latin typeface="Times New Roman"/>
              </a:rPr>
              <a:t>foo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08240" y="4508640"/>
            <a:ext cx="1150920" cy="7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440" rIns="118440" tIns="59400" bIns="594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4100" spc="-1" strike="noStrike">
                <a:solidFill>
                  <a:srgbClr val="ff0000"/>
                </a:solidFill>
                <a:latin typeface="Times New Roman"/>
              </a:rPr>
              <a:t>leg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25560" y="2529000"/>
            <a:ext cx="1630440" cy="7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440" rIns="118440" tIns="59400" bIns="594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4100" spc="-1" strike="noStrike">
                <a:solidFill>
                  <a:srgbClr val="ff0000"/>
                </a:solidFill>
                <a:latin typeface="Times New Roman"/>
              </a:rPr>
              <a:t>hand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7440" y="1359000"/>
            <a:ext cx="1919520" cy="7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440" rIns="118440" tIns="59400" bIns="5940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4100" spc="-1" strike="noStrike">
                <a:solidFill>
                  <a:srgbClr val="ff0000"/>
                </a:solidFill>
                <a:latin typeface="Times New Roman"/>
              </a:rPr>
              <a:t>neck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19760" y="3968640"/>
            <a:ext cx="1533600" cy="7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440" rIns="118440" tIns="59400" bIns="594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4100" spc="-1" strike="noStrike">
                <a:solidFill>
                  <a:srgbClr val="ff0000"/>
                </a:solidFill>
                <a:latin typeface="Times New Roman"/>
              </a:rPr>
              <a:t>kne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56000" y="1719000"/>
            <a:ext cx="1344600" cy="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79760" y="1359000"/>
            <a:ext cx="1247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6120" y="2529000"/>
            <a:ext cx="1055880" cy="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68840" y="4330800"/>
            <a:ext cx="124776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64240" y="5410080"/>
            <a:ext cx="115236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076480" y="4777920"/>
            <a:ext cx="124632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73320" y="2978280"/>
            <a:ext cx="1150920" cy="45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2819520"/>
            <a:ext cx="24382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3048120"/>
            <a:ext cx="2209680" cy="7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440" rIns="118440" tIns="59400" bIns="594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4100" spc="-1" strike="noStrike">
                <a:solidFill>
                  <a:srgbClr val="ff0000"/>
                </a:solidFill>
                <a:latin typeface="Times New Roman"/>
              </a:rPr>
              <a:t>stomac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752480"/>
            <a:ext cx="228600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1600200"/>
            <a:ext cx="1725840" cy="7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440" rIns="118440" tIns="59400" bIns="594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4100" spc="-1" strike="noStrike">
                <a:solidFill>
                  <a:srgbClr val="ff0000"/>
                </a:solidFill>
                <a:latin typeface="Times New Roman"/>
              </a:rPr>
              <a:t>thro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49200" y="819000"/>
            <a:ext cx="825516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had, lie, you, and, when, better, hav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est, you, down, are, tired,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that, to, sorry, I’m, h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31880" y="2168640"/>
            <a:ext cx="700704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You’d better lie down and ha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 rest when you are ti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6840" y="4330800"/>
            <a:ext cx="4565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’m sorry to hear t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837720" y="372960"/>
            <a:ext cx="258984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4100" spc="-1" strike="noStrike">
                <a:solidFill>
                  <a:srgbClr val="0000cc"/>
                </a:solidFill>
                <a:latin typeface="Times New Roman"/>
              </a:rPr>
              <a:t>Ⅲ</a:t>
            </a:r>
            <a:r>
              <a:rPr b="1" lang="zh-CN" sz="4100" spc="-1" strike="noStrike">
                <a:solidFill>
                  <a:srgbClr val="0000cc"/>
                </a:solidFill>
                <a:latin typeface="Times New Roman"/>
              </a:rPr>
              <a:t>. </a:t>
            </a:r>
            <a:r>
              <a:rPr b="1" lang="zh-CN" sz="4100" spc="-1" strike="noStrike">
                <a:solidFill>
                  <a:srgbClr val="0000cc"/>
                </a:solidFill>
                <a:latin typeface="Times New Roman"/>
              </a:rPr>
              <a:t>选词填空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4600" y="1179360"/>
            <a:ext cx="7777080" cy="1737720"/>
          </a:xfrm>
          <a:prstGeom prst="rect">
            <a:avLst/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ee a dentist            have some drink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as got a fever        listen to musi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early                       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9200" y="3159000"/>
            <a:ext cx="8496360" cy="29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If you are stressed out, you should sto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orking and try to 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— Are you thirsty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—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es, I want to 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475160" y="5589720"/>
            <a:ext cx="4319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ave some dri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64240" y="3968640"/>
            <a:ext cx="3647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isten to mu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52360" y="1268280"/>
            <a:ext cx="849636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44600" indent="-4446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My friends has got a toothache, so I tell her to 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It’s good to sleep ______ and get up _______ in the morn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Mr. Green doesn’t feel well. He 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75160" y="2619360"/>
            <a:ext cx="1249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ear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25560" y="3159000"/>
            <a:ext cx="1535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ear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6920" y="4508640"/>
            <a:ext cx="3227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as got a f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940120" y="1809720"/>
            <a:ext cx="2781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ee a dent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52360" y="369360"/>
            <a:ext cx="374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黑体"/>
              </a:rPr>
              <a:t>Ⅳ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黑体"/>
              </a:rPr>
              <a:t>.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黑体"/>
              </a:rPr>
              <a:t>句型转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1. She feels tired. (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就划线部分提问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______ ______ she _____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2. He has a sore back. (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改成一般疑问句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____ he ____ a sore back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3. You should eat more mea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改成否定句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You _________ eat more mea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12840" y="2259000"/>
            <a:ext cx="268776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440" rIns="118440" tIns="59400" bIns="594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ow    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800600" y="2286000"/>
            <a:ext cx="115092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440" rIns="118440" tIns="59400" bIns="594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f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26920" y="3610080"/>
            <a:ext cx="134496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440" rIns="118440" tIns="59400" bIns="594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Do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3581280"/>
            <a:ext cx="13446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440" rIns="118440" tIns="59400" bIns="594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87400" y="5410080"/>
            <a:ext cx="249732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440" rIns="118440" tIns="59400" bIns="594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hould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57200" y="99828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4. She will stay in Shenzhen for nearly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three months. (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对划线部分提问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_____ _____ will she stay in Shenzhen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5. I have a pain in my head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改成同义句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I _____ ___ _________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25560" y="2438280"/>
            <a:ext cx="259092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440" rIns="118440" tIns="59400" bIns="594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ow   l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4648320"/>
            <a:ext cx="451188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440" rIns="118440" tIns="59400" bIns="594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ave    a   heada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52360" y="458640"/>
            <a:ext cx="8352000" cy="58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>
              <a:spcBef>
                <a:spcPts val="51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4100" spc="-1" strike="noStrike">
                <a:solidFill>
                  <a:srgbClr val="0000cc"/>
                </a:solidFill>
                <a:latin typeface="Arial"/>
              </a:rPr>
              <a:t>Ⅴ</a:t>
            </a:r>
            <a:r>
              <a:rPr b="1" lang="zh-CN" sz="4100" spc="-1" strike="noStrike">
                <a:solidFill>
                  <a:srgbClr val="0000cc"/>
                </a:solidFill>
                <a:latin typeface="Arial"/>
              </a:rPr>
              <a:t>. </a:t>
            </a:r>
            <a:r>
              <a:rPr b="1" lang="zh-CN" sz="4100" spc="-1" strike="noStrike">
                <a:solidFill>
                  <a:srgbClr val="0000cc"/>
                </a:solidFill>
                <a:latin typeface="Arial"/>
              </a:rPr>
              <a:t>翻译句子 </a:t>
            </a:r>
            <a:br>
              <a:rPr sz="4100"/>
            </a:br>
            <a:r>
              <a:rPr b="1" lang="zh-CN" sz="4100" spc="-1" strike="noStrike">
                <a:solidFill>
                  <a:srgbClr val="0000cc"/>
                </a:solidFill>
                <a:latin typeface="Arial"/>
              </a:rPr>
              <a:t>1. </a:t>
            </a:r>
            <a:r>
              <a:rPr b="1" lang="zh-CN" sz="4100" spc="-1" strike="noStrike">
                <a:solidFill>
                  <a:srgbClr val="0000cc"/>
                </a:solidFill>
                <a:latin typeface="Arial"/>
              </a:rPr>
              <a:t>牛奶能帮助你保持健康的身体。</a:t>
            </a:r>
            <a:br>
              <a:rPr sz="4100"/>
            </a:br>
            <a:r>
              <a:rPr b="1" lang="zh-CN" sz="4100" spc="-1" strike="noStrike">
                <a:solidFill>
                  <a:srgbClr val="0000cc"/>
                </a:solidFill>
                <a:latin typeface="Arial"/>
              </a:rPr>
              <a:t>　 </a:t>
            </a:r>
            <a:r>
              <a:rPr b="1" lang="zh-CN" sz="4100" spc="-1" strike="noStrike">
                <a:solidFill>
                  <a:srgbClr val="0000cc"/>
                </a:solidFill>
                <a:latin typeface="Arial"/>
              </a:rPr>
              <a:t>Milk can _______ you ______have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1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41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zh-CN" sz="4100" spc="-1" strike="noStrike">
                <a:solidFill>
                  <a:srgbClr val="0000cc"/>
                </a:solidFill>
                <a:latin typeface="Arial"/>
              </a:rPr>
              <a:t>a healthy body.</a:t>
            </a:r>
            <a:br>
              <a:rPr sz="4100"/>
            </a:br>
            <a:r>
              <a:rPr b="1" lang="zh-CN" sz="4100" spc="-1" strike="noStrike">
                <a:solidFill>
                  <a:srgbClr val="0000cc"/>
                </a:solidFill>
                <a:latin typeface="Arial"/>
              </a:rPr>
              <a:t>2. </a:t>
            </a:r>
            <a:r>
              <a:rPr b="1" lang="zh-CN" sz="4100" spc="-1" strike="noStrike">
                <a:solidFill>
                  <a:srgbClr val="0000cc"/>
                </a:solidFill>
                <a:latin typeface="Arial"/>
              </a:rPr>
              <a:t>我爸爸告诉我好好学习英语。</a:t>
            </a:r>
            <a:br>
              <a:rPr sz="4100"/>
            </a:br>
            <a:r>
              <a:rPr b="1" lang="zh-CN" sz="4100" spc="-1" strike="noStrike">
                <a:solidFill>
                  <a:srgbClr val="0000cc"/>
                </a:solidFill>
                <a:latin typeface="Arial"/>
              </a:rPr>
              <a:t>　</a:t>
            </a:r>
            <a:r>
              <a:rPr b="1" lang="zh-CN" sz="4100" spc="-1" strike="noStrike">
                <a:solidFill>
                  <a:srgbClr val="0000cc"/>
                </a:solidFill>
                <a:latin typeface="Arial"/>
              </a:rPr>
              <a:t>My father _______ me ______ study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1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41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zh-CN" sz="4100" spc="-1" strike="noStrike">
                <a:solidFill>
                  <a:srgbClr val="0000cc"/>
                </a:solidFill>
                <a:latin typeface="Arial"/>
              </a:rPr>
              <a:t>English well.</a:t>
            </a:r>
            <a:br>
              <a:rPr sz="4100"/>
            </a:br>
            <a:r>
              <a:rPr b="1" lang="zh-CN" sz="4100" spc="-1" strike="noStrike">
                <a:solidFill>
                  <a:srgbClr val="0000cc"/>
                </a:solidFill>
                <a:latin typeface="Arial"/>
              </a:rPr>
              <a:t>3. </a:t>
            </a:r>
            <a:r>
              <a:rPr b="1" lang="zh-CN" sz="4100" spc="-1" strike="noStrike">
                <a:solidFill>
                  <a:srgbClr val="0000cc"/>
                </a:solidFill>
                <a:latin typeface="Arial"/>
              </a:rPr>
              <a:t>我妈妈说我应该晚饭尽量少吃肉。</a:t>
            </a:r>
            <a:br>
              <a:rPr sz="4100"/>
            </a:br>
            <a:r>
              <a:rPr b="1" lang="zh-CN" sz="4100" spc="-1" strike="noStrike">
                <a:solidFill>
                  <a:srgbClr val="0000cc"/>
                </a:solidFill>
                <a:latin typeface="Arial"/>
              </a:rPr>
              <a:t>　 </a:t>
            </a:r>
            <a:r>
              <a:rPr b="1" lang="zh-CN" sz="4100" spc="-1" strike="noStrike">
                <a:solidFill>
                  <a:srgbClr val="0000cc"/>
                </a:solidFill>
                <a:latin typeface="Arial"/>
              </a:rPr>
              <a:t>My mom said that I should ___ ____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1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41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zh-CN" sz="4100" spc="-1" strike="noStrike">
                <a:solidFill>
                  <a:srgbClr val="0000cc"/>
                </a:solidFill>
                <a:latin typeface="Arial"/>
              </a:rPr>
              <a:t>eat less meat for dinner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32000" y="162864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elp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　　　　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324240" y="3247920"/>
            <a:ext cx="3456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ells            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48520" y="5029200"/>
            <a:ext cx="1674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try  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39640" y="639720"/>
            <a:ext cx="7967880" cy="51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440" rIns="118440" tIns="59400" bIns="594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要太疲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然会使你生病的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on’t ______ too tired or it wi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 you sick.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5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相信每天晚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小时的睡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很重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______  that it’s _________ 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leep 8 hours each n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261880" y="1474920"/>
            <a:ext cx="692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187880" y="4149720"/>
            <a:ext cx="422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mportant   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1880" y="4149720"/>
            <a:ext cx="2233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 Black"/>
                <a:ea typeface="隶书"/>
              </a:rPr>
              <a:t> </a:t>
            </a:r>
            <a:r>
              <a:rPr b="0" lang="zh-CN" sz="3200" spc="-1" strike="noStrike">
                <a:solidFill>
                  <a:srgbClr val="ff0066"/>
                </a:solidFill>
                <a:latin typeface="Arial Black"/>
                <a:ea typeface="隶书"/>
              </a:rPr>
              <a:t>bel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1880" y="1989000"/>
            <a:ext cx="1631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95280" y="3141720"/>
            <a:ext cx="83502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440" rIns="118440" tIns="59400" bIns="594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Do you know how to keep healt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Eating a balanced diet is very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Do you know what a balanced diet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Write an article abou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1332000" y="1052640"/>
            <a:ext cx="6408720" cy="185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826920" y="1025640"/>
            <a:ext cx="7488360" cy="506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660680" y="3373560"/>
            <a:ext cx="14634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2360" y="5589720"/>
            <a:ext cx="4222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e has a toothach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85160" y="549360"/>
            <a:ext cx="7571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What’s the matter with him/her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3348000" cy="3962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648320" y="15238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495680" y="5638680"/>
            <a:ext cx="4222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he  has a toothach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3440" y="1449360"/>
            <a:ext cx="3838680" cy="3870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724280" y="5715000"/>
            <a:ext cx="3549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he has a fev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04920" y="1143000"/>
            <a:ext cx="3946320" cy="4191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5638680"/>
            <a:ext cx="3549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e has a fev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5715000"/>
            <a:ext cx="4222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e has a sore thro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952880" y="609480"/>
            <a:ext cx="3581640" cy="4648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5800" y="533520"/>
            <a:ext cx="3962520" cy="4800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724280" y="5715000"/>
            <a:ext cx="4419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he has a sore thro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2360" y="5589720"/>
            <a:ext cx="4222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e hurt him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5486400"/>
            <a:ext cx="4222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he hurt her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2819520" cy="4572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267080" y="990720"/>
            <a:ext cx="4343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5410080"/>
            <a:ext cx="3840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e has a c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5486400"/>
            <a:ext cx="3840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he has a c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3886200" cy="4343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72000" y="762120"/>
            <a:ext cx="41403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13:51:48Z</dcterms:created>
  <dc:creator>0</dc:creator>
  <dc:description>0</dc:description>
  <cp:keywords>0</cp:keywords>
  <dc:language>en-US</dc:language>
  <cp:lastModifiedBy>User</cp:lastModifiedBy>
  <dcterms:modified xsi:type="dcterms:W3CDTF">2015-09-14T07:02:20Z</dcterms:modified>
  <cp:revision>137</cp:revision>
  <dc:subject>0</dc:subject>
  <dc:title>0</dc:title>
</cp:coreProperties>
</file>